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70F-F2F5-429A-A19A-F6886EE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456-CCFD-4770-A0DA-422A121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332-B2D9-4F78-9819-C6CD5628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D6C-39F4-4188-8F56-DAFD594A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D68-2C8B-4406-88B4-51136B3C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BDB-6D04-44C3-8151-9064F71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332-6533-4B5B-A6A4-5DD10B4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D09-FFAC-4E68-81F8-521AFA5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EE-9BBA-469E-B915-7F11C5F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20A-5999-4B0B-A053-5730270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8E3-61D4-4DC9-A1EC-819AD71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312-D935-444D-9662-3D24D3B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970-401D-45D1-9746-ABCDEF13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490160" cy="2930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TOSCO EM AÇA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6879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03:02:25Z</dcterms:created>
  <dc:creator>Microsoft</dc:creator>
  <dc:description/>
  <dc:language>en-US</dc:language>
  <cp:lastModifiedBy>Microsoft</cp:lastModifiedBy>
  <dcterms:modified xsi:type="dcterms:W3CDTF">2012-03-24T03:02:39Z</dcterms:modified>
  <cp:revision>1</cp:revision>
  <dc:subject/>
  <dc:title>Slide 1</dc:title>
</cp:coreProperties>
</file>